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2956-AB0D-4B0C-84D5-C44E9E10A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C71F-2CEF-47DC-90A3-4E1E099A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58E3-A503-4F9E-812F-8325675A4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3A84-1947-44A7-8A23-7F32E2691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8624-5DE5-4778-8968-B47FDA88D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9CC4-CFEE-4C6B-B8FC-0770C641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7911-57BE-4411-AB76-987C4FF7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C8B0-C59A-444E-8346-10540711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1DB0-1484-4F83-A8A4-DB411975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7AA8-D30B-4B86-902A-1DDD3A73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525A-E471-4BBE-8CC2-04A2C804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3BE0-D8E4-4F55-BD18-CE8724CD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A394-7B5D-4982-8D95-76CBD2CF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9F49C-A055-4EEE-9406-063B93FF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0F57-A5B3-4FB7-93C6-C0FA8DB4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902A-F4C5-4478-83D2-ACCCB390C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3964-4FC8-41A2-B610-2AA06C238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F3BE-A466-4B27-9D4D-A69415E5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ABA6-9468-4662-A699-DFA4B487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2433-6C41-44AB-B273-E049A930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2AC9-569B-4AED-A1DB-5A417ED6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574A-FCE1-4912-9C7D-4F92B12D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E09E-5AE1-4DEE-9AFB-2C1AE8BB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AE9D-14BB-42ED-8A5E-AB60B362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DEE9-281B-4457-8294-CA108E96415D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799A-01A1-4944-A133-429326C38E23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pedritos-home.com/Logo_Cajasur_ok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edritos-home.com/Logo_Cajasur_ok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edritos-home.com/Logo_Cajasur_ok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dritos-home.com/Logo_Cajasur_ok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edritos-home.com/Logo_Cajasur_ok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edritos-home.com/Logo_Cajasur_ok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edritos-home.com/Logo_Cajasur_ok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84360" y="765000"/>
            <a:ext cx="81946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4c000f"/>
                    </a:gs>
                    <a:gs pos="100000">
                      <a:srgbClr val="a50021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Organización y administracion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4c000f"/>
                  </a:gs>
                  <a:gs pos="100000">
                    <a:srgbClr val="a50021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4c000f"/>
                    </a:gs>
                    <a:gs pos="100000">
                      <a:srgbClr val="a50021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4c000f"/>
                    </a:gs>
                    <a:gs pos="100000">
                      <a:srgbClr val="a50021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de empresa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4c000f"/>
                  </a:gs>
                  <a:gs pos="100000">
                    <a:srgbClr val="a50021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763640" y="3068640"/>
            <a:ext cx="590400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87280" y="1413000"/>
            <a:ext cx="640908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esto 2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Cuál es el título de su cargo en la organiza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ble 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Cuál es su misión principal en la organiza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actar las cuentas de forma correcta y fiable para evitar problemas con las auditorias externas y así reflejar la situación económica de la empresa en cada mo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Tiene autoridad sobre alguna person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bre la Administración Contable y sobre los Es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A qué personas tendría que obedec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 Director del Área Financiera e Interventora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00000" y="476280"/>
            <a:ext cx="691200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NÁLISIS DE VARIOS PUESTOS DE TRABAJO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0" name="" descr="Ver imagen en tamaño completo"/>
          <p:cNvPicPr/>
          <p:nvPr/>
        </p:nvPicPr>
        <p:blipFill>
          <a:blip r:embed="rId3"/>
          <a:stretch/>
        </p:blipFill>
        <p:spPr>
          <a:xfrm>
            <a:off x="6156360" y="5877000"/>
            <a:ext cx="27846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42920" y="1484280"/>
            <a:ext cx="698508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esto 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Cuál es el título de su cargo en la organiza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fe de los Programas de 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Cuál es su misión principal en la organiza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aborar programas de formación para los nuevos integrantes de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Existen cursos, quién los impar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, existen cursos para complementar la formación de nuestros empleados en varias materias. Lo imparte profesionales externos a la empresa o empleados con un alto nivel de formación  preparados para transmitir sus conocimien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A qué personas tendría que obedec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 Jefe de Recursos Hum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00000" y="476280"/>
            <a:ext cx="691200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NÁLISIS DE VARIOS PUESTOS DE TRABAJO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3" name="" descr="Ver imagen en tamaño completo"/>
          <p:cNvPicPr/>
          <p:nvPr/>
        </p:nvPicPr>
        <p:blipFill>
          <a:blip r:embed="rId3"/>
          <a:stretch/>
        </p:blipFill>
        <p:spPr>
          <a:xfrm>
            <a:off x="6156360" y="5877000"/>
            <a:ext cx="27846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9640" y="3429000"/>
            <a:ext cx="1297080" cy="9169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Área de Banca Minor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50920" y="3429000"/>
            <a:ext cx="1584360" cy="11912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Área de Planificación Comercial y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51280" y="3429000"/>
            <a:ext cx="1657440" cy="9169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Área de Banca Especi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24360" y="3429000"/>
            <a:ext cx="1513080" cy="11912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Área Financiera e Interventora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380360" y="3429000"/>
            <a:ext cx="136836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Área de Ries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549360"/>
            <a:ext cx="194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40000" y="530064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32000" y="1916280"/>
            <a:ext cx="2448000" cy="504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CIÓN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Ver imagen en tamaño completo"/>
          <p:cNvPicPr/>
          <p:nvPr/>
        </p:nvPicPr>
        <p:blipFill>
          <a:blip r:embed="rId1"/>
          <a:stretch/>
        </p:blipFill>
        <p:spPr>
          <a:xfrm>
            <a:off x="6156360" y="5877000"/>
            <a:ext cx="2784600" cy="7682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900000" y="692280"/>
            <a:ext cx="691200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ORGANIGRAMA GENERAL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"/>
          <p:cNvSpPr/>
          <p:nvPr/>
        </p:nvSpPr>
        <p:spPr>
          <a:xfrm>
            <a:off x="1116000" y="2924280"/>
            <a:ext cx="66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84720" y="2421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16000" y="2924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00360" y="2924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43280" y="2924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56360" y="2924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812000" y="2924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Ver imagen en tamaño completo"/>
          <p:cNvPicPr/>
          <p:nvPr/>
        </p:nvPicPr>
        <p:blipFill>
          <a:blip r:embed="rId1"/>
          <a:stretch/>
        </p:blipFill>
        <p:spPr>
          <a:xfrm>
            <a:off x="6156360" y="5877000"/>
            <a:ext cx="2784600" cy="7682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476360" y="4292640"/>
            <a:ext cx="1297080" cy="5202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ursos Prop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16360" y="4292640"/>
            <a:ext cx="1368360" cy="5202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bilidad Financi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67280" y="4292640"/>
            <a:ext cx="1368720" cy="5202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 de Ga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63640" y="530064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132000" y="1341360"/>
            <a:ext cx="2448000" cy="1079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ÁREA FINANCIERA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ENT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39640" y="3789360"/>
            <a:ext cx="7704360" cy="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421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9640" y="38210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24000" y="38210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08360" y="37893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76720" y="37893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516720" y="37893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4292640"/>
            <a:ext cx="1368360" cy="7333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olidación e Intervención G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00000" y="549360"/>
            <a:ext cx="691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ORGANIGRAMA ESPECÍFICO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6" name=""/>
          <p:cNvSpPr/>
          <p:nvPr/>
        </p:nvSpPr>
        <p:spPr>
          <a:xfrm>
            <a:off x="5076720" y="2708280"/>
            <a:ext cx="151308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ff de Interve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84720" y="3068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244000" y="3789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451640" y="4292640"/>
            <a:ext cx="1368360" cy="5202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 de Ga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427640" y="4292640"/>
            <a:ext cx="1296720" cy="30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s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35280" y="5445000"/>
            <a:ext cx="1368360" cy="30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47640" y="5445000"/>
            <a:ext cx="1368720" cy="5202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ministración Con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92360" y="4797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24000" y="515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24000" y="5157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5157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484360" y="333360"/>
            <a:ext cx="4824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DIC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"/>
          <p:cNvSpPr/>
          <p:nvPr/>
        </p:nvSpPr>
        <p:spPr>
          <a:xfrm>
            <a:off x="1403280" y="2133720"/>
            <a:ext cx="2087640" cy="792000"/>
          </a:xfrm>
          <a:prstGeom prst="flowChartAlternateProcess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I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11640" y="4149720"/>
            <a:ext cx="2087640" cy="790560"/>
          </a:xfrm>
          <a:prstGeom prst="flowChartAlternateProcess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TO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ING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5013360"/>
            <a:ext cx="2087640" cy="790560"/>
          </a:xfrm>
          <a:prstGeom prst="flowChartAlternateProcess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FIGU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GANIZ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3141720"/>
            <a:ext cx="2087640" cy="790560"/>
          </a:xfrm>
          <a:prstGeom prst="flowChartAlternateProcess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M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RUCTUR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1268280"/>
            <a:ext cx="2087640" cy="719280"/>
          </a:xfrm>
          <a:prstGeom prst="flowChartAlternateProcess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Ver imagen en tamaño complet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56360" y="5877000"/>
            <a:ext cx="27846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55640" y="620640"/>
            <a:ext cx="5761080" cy="1800360"/>
          </a:xfrm>
          <a:prstGeom prst="flowChartAlternateProcess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I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76360" y="328464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HIS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400536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MISIÓN 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Ver imagen en tamaño comple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5877000"/>
            <a:ext cx="27846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Ver imagen en tamaño comple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5877000"/>
            <a:ext cx="2784600" cy="7682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26920" y="119700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124000" y="404640"/>
            <a:ext cx="468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ISTORIA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/>
          <p:nvPr/>
        </p:nvSpPr>
        <p:spPr>
          <a:xfrm>
            <a:off x="1116000" y="1916280"/>
            <a:ext cx="720108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 historia de Cajasur es relativamente reciente. Surje en 1995  de la fusión de Monte de Piedad y Caja de Ahorros de Córdoba, vinculada a la Iglesia Católica y la Caja Provincial de Ahorros de Córdoba, vinculada a la Diputación Provincial. Cajasur era un nombre con el cual venia operando el Monte de Piedad desde hacia añ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Monte de Piedad y Caja de Ahorros de Córdoba conocido a lo largo de la historia con diversos nombres como Monte de Piedad de Córdoba, como Monte de Piedad del Sr Medina o Caja de Ahorros de Córdoba, fue fundada por el Cabildo Catedrático de Córdoba, como Monte de Piedad, el 1 de septiembre de 1864. En la actualidad es la Iglesia Católica quien sigue controlando a Cajas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Ver imagen en tamaño comple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5877000"/>
            <a:ext cx="2784600" cy="76824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179280" y="476280"/>
            <a:ext cx="5762880" cy="5304960"/>
            <a:chOff x="179280" y="476280"/>
            <a:chExt cx="5762880" cy="5304960"/>
          </a:xfrm>
        </p:grpSpPr>
        <p:sp>
          <p:nvSpPr>
            <p:cNvPr id="104" name="Pyr1"/>
            <p:cNvSpPr/>
            <p:nvPr/>
          </p:nvSpPr>
          <p:spPr>
            <a:xfrm>
              <a:off x="2421720" y="476280"/>
              <a:ext cx="1291680" cy="117576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Pyr2"/>
            <p:cNvSpPr/>
            <p:nvPr/>
          </p:nvSpPr>
          <p:spPr>
            <a:xfrm>
              <a:off x="1673640" y="1652040"/>
              <a:ext cx="2780640" cy="137952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Pyr3"/>
            <p:cNvSpPr/>
            <p:nvPr/>
          </p:nvSpPr>
          <p:spPr>
            <a:xfrm>
              <a:off x="933840" y="3031560"/>
              <a:ext cx="4259880" cy="137772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Pyr4"/>
            <p:cNvSpPr/>
            <p:nvPr/>
          </p:nvSpPr>
          <p:spPr>
            <a:xfrm>
              <a:off x="179280" y="4402080"/>
              <a:ext cx="5762880" cy="137916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700360" y="134136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00360" y="25653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00360" y="321300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00360" y="3789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00360" y="494172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08360" y="1413000"/>
            <a:ext cx="1368360" cy="144360"/>
          </a:xfrm>
          <a:prstGeom prst="rightArrow">
            <a:avLst>
              <a:gd name="adj1" fmla="val 50000"/>
              <a:gd name="adj2" fmla="val 23697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67280" y="2060640"/>
            <a:ext cx="1079280" cy="144360"/>
          </a:xfrm>
          <a:prstGeom prst="rightArrow">
            <a:avLst>
              <a:gd name="adj1" fmla="val 50000"/>
              <a:gd name="adj2" fmla="val 186908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27640" y="2708280"/>
            <a:ext cx="1079280" cy="144360"/>
          </a:xfrm>
          <a:prstGeom prst="rightArrow">
            <a:avLst>
              <a:gd name="adj1" fmla="val 50000"/>
              <a:gd name="adj2" fmla="val 186908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24360" y="5013360"/>
            <a:ext cx="1079640" cy="144360"/>
          </a:xfrm>
          <a:prstGeom prst="rightArrow">
            <a:avLst>
              <a:gd name="adj1" fmla="val 50000"/>
              <a:gd name="adj2" fmla="val 18697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16360" y="3284640"/>
            <a:ext cx="1079640" cy="144360"/>
          </a:xfrm>
          <a:prstGeom prst="rightArrow">
            <a:avLst>
              <a:gd name="adj1" fmla="val 50000"/>
              <a:gd name="adj2" fmla="val 18697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03640" y="3860640"/>
            <a:ext cx="1079640" cy="144720"/>
          </a:xfrm>
          <a:prstGeom prst="rightArrow">
            <a:avLst>
              <a:gd name="adj1" fmla="val 50000"/>
              <a:gd name="adj2" fmla="val 186505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19640" y="112536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19640" y="119700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undada por el Cabildo Catedrático de Córdoba como Monte de Pie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92720" y="1844640"/>
            <a:ext cx="34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probación de los primeros Estatutos y Reglamentos por Reales Órde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80000" y="2492280"/>
            <a:ext cx="331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stituida formalmente por el mismo Cabildo Eclesiás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3068640"/>
            <a:ext cx="280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probación de los Estatutos vigentes en la actu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84720" y="3573360"/>
            <a:ext cx="2737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Fusión del Monte de Piedad y Caja de Ahorros de Córdoba y de la Caja Provincial de Ahorros de Córdoba. Adopta el nombre comercial de Cajasu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77080" y="4869000"/>
            <a:ext cx="2087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uenta con 3048 empleados y 485 oficinas repartidas en 15 provin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Ver imagen en tamaño comple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5877000"/>
            <a:ext cx="2784600" cy="768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203640" y="981000"/>
            <a:ext cx="5499000" cy="3702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68360" y="2133720"/>
            <a:ext cx="358560" cy="358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2852640"/>
            <a:ext cx="3585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2133720"/>
            <a:ext cx="208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Provincias que tienen sucursales de Cajas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71640" y="2852640"/>
            <a:ext cx="201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Provincias que no tienen sucursales de Cajas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Ver imagen en tamaño comple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5877000"/>
            <a:ext cx="2784600" cy="7682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611280" y="476280"/>
            <a:ext cx="3097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ISIÓN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003640" y="476280"/>
            <a:ext cx="3529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ISIÓN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1916280"/>
            <a:ext cx="360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misión de Cajasur es a través de una fundación, hermandad… etc sin animo de lucro, ayudar  a aquellos que lo necesiten tanto económicamente como socialmente, dando trabajo a aquellos que con dedicación y esfuerzo desean llevar a cabo una labor en una Caja de Ahorros como Cajas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76720" y="1844640"/>
            <a:ext cx="345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visión de Cajasur es abrir más oficinas en toda España y lograr sobrevivir a la situación económica que nos acontece saliendo airosos sin necesidad de cerrar oficinas ni dejando sin empleo a sus trabajadores. Da becas a estudiantes, ayuda a personas con discapacidad o en riesgo de exclusión social o subvencionando la conservación del patrimonio histórico-artístico y el medio amb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00000" y="981000"/>
            <a:ext cx="3743280" cy="1008000"/>
          </a:xfrm>
          <a:prstGeom prst="flowChartAlternateProcess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M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RUCTUR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71640" y="256536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ÁLISIS DE VARIOS PUESTOS DE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414972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NÁLISIS DE LA CULTURA Y LOS VALORES DE LA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299736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NÁLISIS DELA ESTRUCTURA FORMAL DE LA ORGANIZACIÓN: ORGANI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71640" y="371628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NÁLISIS DE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71640" y="486900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OUTSOU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Ver imagen en tamaño comple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5877000"/>
            <a:ext cx="27846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16000" y="1557360"/>
            <a:ext cx="61927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esto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Cuál es el título de su cargo en la organiza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fa de Gestión Comercial y Produ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Cuál es su misión principal en la organiza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 y controlar la productividad en la empresa para que resulte efic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Tiene autoridad sobre alguna person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bre el área de información comercial y el área de planificación comercial, y las personas que las integr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A qué personas tendría que obedec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 director del área de Planificación Comercial y Marketing e indirectamente al Director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00000" y="476280"/>
            <a:ext cx="691200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NÁLISIS DE VARIOS PUESTOS DE TRABAJO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7" name="" descr="Ver imagen en tamaño completo"/>
          <p:cNvPicPr/>
          <p:nvPr/>
        </p:nvPicPr>
        <p:blipFill>
          <a:blip r:embed="rId3"/>
          <a:stretch/>
        </p:blipFill>
        <p:spPr>
          <a:xfrm>
            <a:off x="6156360" y="5877000"/>
            <a:ext cx="27846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3T10:50:49Z</dcterms:created>
  <dc:creator>Lena Salas</dc:creator>
  <dc:description/>
  <dc:language>en-US</dc:language>
  <cp:lastModifiedBy>Familia</cp:lastModifiedBy>
  <dcterms:modified xsi:type="dcterms:W3CDTF">2009-05-15T17:36:46Z</dcterms:modified>
  <cp:revision>5</cp:revision>
  <dc:subject/>
  <dc:title>Diapositiva 1</dc:title>
</cp:coreProperties>
</file>